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22C-631C-4C63-91B3-D3D317A4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B2D-EE40-4655-86CD-68D56451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D50-8325-402F-9BEA-3D8025A2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8AA-075B-4B1F-A71F-B8324AE0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A4F-84F5-485A-88B4-001DFCA4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77E-DA2E-48EB-9A61-1DC51A5F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6AC-81E9-4C74-A2A5-B0741389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8F3-D09B-478B-86D8-552570DA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A9B-5954-4443-9422-9ED8A7BF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B6B-C163-46FB-B2AB-5B642D0E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DFB-3875-4CE6-9FBA-9C536278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22B-6998-402B-AE88-FE8B8B61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A56D-06E8-4BC9-9A5F-848E5A338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educators/p_websearch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arching and C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Skills of Modern Histor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4038480" y="3049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arching for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ips and Tri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anding Your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arch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than on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e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Use the plus symbol ‘+’ to link 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e.g. Food + Drink to search both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ynony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Use the tilde symbol ‘~’ before a word to search that word and any like words or synony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.g. Ancient Egyptian ~Food &gt;&gt; Searching Food, Cuisine, Diet etc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fining Your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cluding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To refine your search and exclude particular terms from your search use the minus symbol ‘-’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.g. Panthers –Sport, which will avoid websites related to Panthers sport te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Search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c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r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To search an exact phrase use quotation marks “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.g. “Ancient Roman Weapon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ting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t is important to record all your sources of information accurately and in the correct format, to add value to your work and recognise the work of 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‘cite’ a book we use the following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thorSurname, FirstName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itle of Book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lace of Publication: Publisher, Year of Publ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(Grab a boo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ite a website we use the following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thorSurname, AuthorFirstName. “Title.” Date of Publication URL: Web Addr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Complete for the following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22:16:57Z</dcterms:created>
  <dc:creator>qhs</dc:creator>
  <dc:description/>
  <dc:language>en-US</dc:language>
  <cp:lastModifiedBy>DET User</cp:lastModifiedBy>
  <dcterms:modified xsi:type="dcterms:W3CDTF">2009-08-26T22:53:10Z</dcterms:modified>
  <cp:revision>5</cp:revision>
  <dc:subject/>
  <dc:title>Searching and Citing</dc:title>
</cp:coreProperties>
</file>